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EC3-4F81-49BF-8F29-5AF0913D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136-2C9D-4B67-8578-9594A1F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3A5-993A-4470-B2ED-12591B79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22-9F50-4FD1-986E-0DE3356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78CB-5E74-4DE1-8F47-F72F5B79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1AE-429D-4490-A403-0CF72686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169D-7D2B-4887-A957-AF305F55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BB27-24D2-45A4-96E2-1D7785F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ABA0-35B4-4952-A719-C70B67EB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3A13-2B03-4F92-9401-4C5FD72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1B4-F158-487F-84EA-0B115C4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65C-54DD-4221-9993-2F29CCC5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E1A-AE59-4A30-9ECF-5FE7698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14F8-3A96-405E-B6B9-F806CF0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4EC-E988-44FA-9643-F198EE7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DBF-5903-4B5E-8B9C-B135D071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64DD-8EA2-422F-9744-4B94C505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7AF17-A07B-477F-98F7-B2E33F0B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FE7AF-9813-421C-9F76-6619B378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8DD4B-300B-4554-9862-C7E2AF03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E54F4-C4BC-47A1-8158-92A0637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674EB-55F6-4B23-B4EE-637BA27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7C6-4FE8-4111-A248-EDA0ED3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19DDB-B18A-44AB-9E93-E572E2B6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8A065-0785-4FAB-93D0-9C79B54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954EB-FD7D-4953-929D-6B7DD30B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0087C-867B-4895-8293-01120252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8E439-9BA0-4908-99FA-43F63FC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55792-F270-4837-949E-93C7FFF7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A9D38-308C-4464-BD02-1F43AD0D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05940-6DF0-4D33-866D-82A47DC7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996B-8726-4598-ACB0-8052D76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7F0F-0D6A-4FA1-AF86-AA8C49A6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153-A851-4714-A115-B5EA412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11BD-1CF0-4C44-B83D-1A87913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23D7-B3F4-4787-889B-EB8E450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23E5-1763-4685-A754-397A6B45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7853-9AEE-4798-9A34-A276A01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ABBA-3A54-432F-B7B4-90BA720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2EA01-D5D6-4156-99EA-1CE1224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4A4C-D317-464F-A3A9-DDACA864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6845-1A45-46F8-9C2F-1E588550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E4C7-5B6D-4898-95F5-742D34B4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996-0BEB-4F50-980E-67AA4C6E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668-DCCC-4E50-85F9-B3DA33AC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E1E-9625-476E-BA49-D7B1A692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D69-89FF-49DB-8DCB-EB776A9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94D-F17C-4195-B8E4-72C8082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544-F2A0-46ED-9C32-61BA0FEDC5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002-A115-4B12-8440-EF82FF9BB3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8F11-17F7-45F0-9310-13B25849EA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0D2-7926-46F7-93A2-619C62BAB0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 Cas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 Willa Stonecip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Jardi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jardin. Es verde, rojo, rosa, y morado. Es muy bell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356868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Garaj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garaje. Es muy moderno y blanco. Es lujos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3328920" cy="281916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bliograph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www.google.com/imgres?um=1&amp;hl=en&amp;biw=1040&amp;bih=894&amp;tbm=isch&amp;tbnid=NpYPNMdsrypQ5M:&amp;imgrefurl=http://www.thelennoxx.com/category/browse-by-room/home-office/page/2/&amp;docid=8SGZKFradINHUM&amp;imgurl=http://www.thelennoxx.com/wp-content/uploads/2012/03/teen-bedroom-contemporary-modern-white-turquoise-red-pattern.jpg&amp;w=810&amp;h=539&amp;ei=q3xZUfbcMtWz4AOk84DIDw&amp;zoom=1&amp;ved=1t:3588,r:9,s:0,i:108&amp;iact=rc&amp;dur=816&amp;page=1&amp;tbnh=174&amp;tbnw=275&amp;start=0&amp;ndsp=18&amp;tx=216&amp;ty=9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1752480"/>
            <a:ext cx="632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um=1&amp;hl=en&amp;sa=X&amp;biw=1040&amp;bih=851&amp;tbm=isch&amp;tbnid=huuzPUCW05yn3M:&amp;imgrefurl=http://homecreativedesign.com/live-comfortably-with-a-simple-house-design.html/classic-simple-home-ideas&amp;docid=gL-Gd0ks_Q6z6M&amp;imgurl=http://homecreativedesign.com/wp-content/uploads/2012/04/classic-simple-home-ideas-1024x768.jpg&amp;w=1024&amp;h=768&amp;ei=OH5ZUYP2BdG64AOoz4DIBg&amp;zoom=1&amp;ved=1t:3588,r:12,s:0,i:183&amp;iact=rc&amp;dur=930&amp;page=1&amp;tbnh=188&amp;tbnw=259&amp;start=0&amp;ndsp=16&amp;tx=126&amp;ty=84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24256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google.com/imgres?um=1&amp;hl=en&amp;biw=1040&amp;bih=851&amp;tbm=isch&amp;tbnid=w-ghwU4tOImVjM:&amp;imgrefurl=http://forums.3dtotal.com/showthread.php%3Ft%3D67698&amp;docid=KXwzBSGnT4x1UM&amp;imgurl=http://forums.3dtotal.com/attachment.php%253Fattachmentid%253D140821%2526stc%253D1%2526d%253D1244654421&amp;w=800&amp;h=600&amp;ei=jX9ZUcqjBdi24APKnoDQAg&amp;zoom=1&amp;ved=1t:3588,r:26,s:0,i:167&amp;iact=rc&amp;dur=1350&amp;page=2&amp;tbnh=169&amp;tbnw=245&amp;start=19&amp;ndsp=21&amp;tx=128&amp;ty=98</a:t>
            </a:r>
            <a:endParaRPr b="0" lang="en-US" sz="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3124080"/>
            <a:ext cx="533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google.com/imgres?hl=en&amp;sa=X&amp;biw=1040&amp;bih=894&amp;tbm=isch&amp;tbnid=ftl84rCacwXApM:&amp;imgrefurl=http://paloma81.blogspot.com/2009/04/dominos-greatest-hits-katie-lee-joel.html&amp;docid=MSNrxHaNRq1rxM&amp;imgurl=http://3.bp.blogspot.com/_FfZMBBaCF8w/SezCW_2x6ZI/AAAAAAAAFuU/l7wFoPR87oc/s400/domino%252Bklj4.jpg&amp;w=354&amp;h=375&amp;ei=lRdbUcreFaex0QHo74CwAQ&amp;zoom=1&amp;ved=1t:3588,r:74,s:0,i:342&amp;iact=rc&amp;dur=1060&amp;page=4&amp;tbnh=185&amp;tbnw=172&amp;start=56&amp;ndsp=20&amp;tx=75&amp;ty=78</a:t>
            </a: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38098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Kkx0te8kiZY5SM:&amp;imgrefurl=http://www.laurieflower.com/modern-living-room-color-schemes/cool-living-room-color-schemes-laurieflower-002&amp;docid=118_u5y5I7VW6M&amp;imgurl=http://www.laurieflower.com/wp-content/uploads/2013/01/Cool-Living-Room-Color-Schemes-LaurieFlower-002.jpeg&amp;w=931&amp;h=698&amp;ei=BRpbUdPxL-fV0gGY0IB4&amp;zoom=1&amp;ved=1t:3588,r:11,s:0,i:154&amp;iact=rc&amp;dur=528&amp;page=1&amp;tbnh=186&amp;tbnw=245&amp;start=0&amp;ndsp=16&amp;tx=143&amp;ty=102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426708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-6W3oOelgyspiM:&amp;imgrefurl=http://room-decorating-ideas.com/room-decor-for-young-adults/&amp;docid=XzrVQw9eL0-raM&amp;imgurl=http://room-decorating-ideas.com/wp-content/uploads/2012/06/polo-Bedroom-adullt.jpg&amp;w=1200&amp;h=884&amp;ei=ABtbUdzrJ5O40QH5xYGQCw&amp;zoom=1&amp;ved=1t:3588,r:11,s:0,i:128&amp;iact=rc&amp;dur=387&amp;page=1&amp;tbnh=172&amp;tbnw=218&amp;start=0&amp;ndsp=16&amp;tx=126&amp;ty=11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62120" y="4417200"/>
            <a:ext cx="4343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S7GuGWpVygtE9M:&amp;imgrefurl=http://pinterest.com/lauriewelch/cool-patios/&amp;docid=UHA1cExmEDQ4UM&amp;imgurl=http://media-cache-ec2.pinterest.com/192x/04/a4/e2/04a4e2cd14c34c7e84d84770402e74b3.jpg&amp;w=192&amp;h=255&amp;ei=rBtbUdPAKOf30gHlm4CQBA&amp;zoom=1&amp;ved=1t:3588,r:46,s:0,i:227&amp;iact=rc&amp;dur=519&amp;page=3&amp;tbnh=189&amp;tbnw=153&amp;start=36&amp;ndsp=20&amp;tx=81&amp;ty=49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5181480"/>
            <a:ext cx="48006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x22s2hXUYwkcaM:&amp;imgrefurl=http://www.saltandnectar.com/theblog/2011/8/29/things-i-dont-do.html&amp;docid=kdEiEGN4oRRwrM&amp;imgurl=http://balancedlivinginc.com/images/gardens.jpg&amp;w=2048&amp;h=1536&amp;ei=eh1bUe3rH7P00QGouYGQAQ&amp;zoom=1&amp;ved=1t:3588,r:17,s:0,i:132&amp;iact=rc&amp;dur=407&amp;page=2&amp;tbnh=175&amp;tbnw=221&amp;start=16&amp;ndsp=21&amp;tx=138&amp;ty=85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5715000"/>
            <a:ext cx="5664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51&amp;tbm=isch&amp;tbnid=4VJagDRLe3D16M:&amp;imgrefurl=http://b3-bond.com/modern-world-bathrooms-interior-collection/&amp;docid=zy25Q-mHlc4LJM&amp;imgurl=http://b3-bond.com/wp-content/uploads/2011/04/Cool-and-Comfortable-Bathroom-Interior-Space-570x431.jpg&amp;w=570&amp;h=431&amp;ei=OB5bUcXiCZDp0QHUxoGIDA&amp;zoom=1&amp;ved=1t:3588,r:4,s:0,i:146&amp;iact=rc&amp;dur=663&amp;page=1&amp;tbnh=169&amp;tbnw=226&amp;start=0&amp;ndsp=16&amp;tx=144&amp;ty=8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-75960" y="632160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http://www.google.com/imgres?hl=en&amp;biw=1040&amp;bih=894&amp;tbm=isch&amp;tbnid=uvM-mfJ1Ul8lQM:&amp;imgrefurl=http://myipamm.net/modern-garage-plans/&amp;docid=MDkYUmlaiRLJIM&amp;imgurl=http://www.alspics.com/wp-content/uploads/2011/05/Modern-Garage-1.jpg&amp;w=560&amp;h=405&amp;ei=zl5cUdLeNuuv0AHL9YAg&amp;zoom=1&amp;ved=1t:3588,r:4,s:0,i:133&amp;iact=rc&amp;dur=1798&amp;page=1&amp;tbnh=182&amp;tbnw=241&amp;start=0&amp;ndsp=16&amp;tx=147&amp;ty=74</a:t>
            </a: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74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i Cas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una casa. Es muy bonita y estupenda. Es gris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uar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un cuarto.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Es bella y azule. No es moderno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263520" y="2052720"/>
            <a:ext cx="340056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uar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85840" y="2057040"/>
            <a:ext cx="36241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cuarto. No es fao. Es grande. Es verd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52280" y="2138400"/>
            <a:ext cx="3627720" cy="2671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Sal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sala. Es lujoso. Es blanco y negr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31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Coc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cocina. Es muy impresionante y moderno. Es grand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Comedo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comedor. Es antiguo y grande. Es blanco y negr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02160" y="1901880"/>
            <a:ext cx="2979720" cy="34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" sz="4000" spc="-1" strike="noStrike">
                <a:solidFill>
                  <a:srgbClr val="f7d47d"/>
                </a:solidFill>
                <a:latin typeface="Arial"/>
              </a:rPr>
              <a:t>ñ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b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o. Es moderno y nuevo. Es estupe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452760" cy="30668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Pat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 patio. No es peque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o. Es blanc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14:07Z</dcterms:created>
  <dc:creator>stonecipherwil</dc:creator>
  <dc:description/>
  <dc:language>en-US</dc:language>
  <cp:lastModifiedBy>stonecipherwil</cp:lastModifiedBy>
  <dcterms:modified xsi:type="dcterms:W3CDTF">2013-04-04T15:36:28Z</dcterms:modified>
  <cp:revision>38</cp:revision>
  <dc:subject/>
  <dc:title>Mi Casa</dc:title>
</cp:coreProperties>
</file>